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839B5-72B0-4BB2-942E-CFF3F1B38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73A62-DB46-4502-B699-C9C2ADF49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A922A8-9FA9-4FE1-A669-678AD9002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4E1896-0C7C-4615-A12D-8156199CA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7057C9-A931-4D62-B706-7A8A4E15C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662BE0-8F32-4C5D-9BCA-758DF34BD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7F3175-83A0-47DA-82BF-73B14AAA1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B482E2-3423-4B56-9E32-6E00305DB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52622E-A2FB-4BDF-A062-EAD347240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620DBA-DBB8-4AA9-9BB0-80B859698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EF039E-8D07-4FAC-A7F2-CA9CECC60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3234A7-5E12-409F-A551-206F25B44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969F5-2F1E-4C1C-B5A6-52A84FE0D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A0A631-E91C-4765-A797-17F516E6D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4579F2-4981-437D-9C19-937651FC0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F10387-7083-49E4-91F2-5C6826FC4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B53B7E-4781-409B-9646-042733EFB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E53676-EBC0-410A-8180-8A311E48D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6F81B8-7756-4C2E-B5EA-E7F6C2BF2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0A626B-31ED-4F56-AB18-832A50387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65F1E8-FF1C-433F-904D-C60CA66FB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57DA7D-E853-4A32-8DE9-5104F20E6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A4278C-B0C2-492C-A72C-0815D3F7E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B61F1-31FB-423F-B1D1-F40D901B6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6C1AD8-A5BE-42E4-9B9D-CB027CF12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906B51-4A9F-46EA-BE1E-832E26BA1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22C407-6B58-449B-9C9E-C4E1AF950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56F261-A72C-4B15-80C9-3B1E85C88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25745C-7827-4A71-9C9E-EB91403B0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B45CBF-A3AA-47E7-923D-09FC27085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D19C2A-9689-4958-B65F-D415A1ED7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0856F0-E246-43DA-B977-C281CFD37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8BA54F-11FD-4501-A0EA-FC0A8C3DC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49AE3E-E712-400E-BA3B-8A7433D1A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1C472-32C2-428C-94BE-F24FCB4CA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FD4B1D-9022-4AF6-BE0A-C6747B8C2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D1BE25-3931-4D34-AEDC-3CCDA6D16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71F869-7979-4988-9968-8D4F00210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F83C62-185D-41E6-A6DB-AA2A267E0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A6FE3C-2137-4E35-A1B1-37F965846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B14F28-6688-40F9-85B9-ED2AFA4ED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50A3B0-395E-4033-A79D-486949995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F7D5EF-4BA3-4BBA-8EA3-9C88A78AF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76EAEA-8D70-4363-98A0-D0A7BD62B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1085B9-1343-4107-BBEA-63C8560B9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BAA52-D973-4B0B-9FAD-F9C11DA4C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313DD5-60A2-4DDE-9EE9-E803805A8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46F762-DEBD-49A2-8DB2-691B37BA7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1D7065-AAAC-46B6-ABB7-24D512CEC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EBC63D-C2BE-4478-B913-A2875B174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BF9C7C-CEE0-451A-AB4D-AAC840D85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9CE7EC1-2B73-42D8-8E9B-CFE611C33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A860B17-6F31-41B3-A84A-4B4C8BFE6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AC66DBB-D2DB-4C8E-9622-192422C5E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510DDB8-8B7B-49E4-9B74-FF61703A8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EF7DA02-FA42-4AD0-BD51-F24FCF746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42EF4-8FC3-4E63-8A42-9595A671D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00776E2-F344-4149-9269-E8BDE34E0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1535C0C-F7C7-477F-895D-7B1DCE830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5460DD5-E190-41A9-807A-D680105DA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1386961-3EE2-46E2-89BE-72E7A8530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895097A-1155-4696-84E6-2EEDFFEA7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F8DFAF6-F39B-4A15-8ECE-27414C9AE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75FBC84-593B-410A-8318-C9407F183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3A8D890-85D7-40A0-B155-9A0642C90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938F859-01A6-466A-A14A-C414AD83B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C8C5C22-831A-4E8C-8961-EF63FF4E0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A1F2F-F1A5-477F-9922-19FD3D763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D786407-7D13-4EDF-BAEE-8C6235BB7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58C80F2-B5A8-4663-9623-11678FB5D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6D84650-50C5-4B4C-88FC-CC24D8F8D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DBA7D9E-A8F3-4759-93BF-863246844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7A607B1-D9E8-4E8D-86F9-3F8D70C27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B74A30F-4646-4C71-B813-A423D7512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6CCD39E-F09D-40E4-8F44-6A95E4314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CFE2FEB-15A0-4380-89F0-93A913082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779CBB3-E7CD-4DB7-B2FD-404A98FE4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B45F7AE-CF74-45F4-B577-F85B7ECCC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C8F6C-992D-4577-9403-2B6CE1996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AAC5876-2FF4-4AE4-8F72-887593160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259C9E5-C152-4E3D-B05B-AAC4A8B5B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79393B7-408A-4195-9845-9330F47DB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31330AB-0007-49F7-AA8B-1ABFE0CBD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EC9F7DB-58A0-4D9F-9A40-BF0C28182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6D7740F-8BC4-46FB-B342-3508861EF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3445B50-3851-4F9D-A36B-8EEEF7561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0FA0BEF-3D82-4A30-AC4F-AD76BBA05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BEA7A14-6044-4F13-BD8A-9A3C99CE2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941917B-DC55-4042-8877-958B2DC9B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49A80-7C02-4A45-A062-FA7069A64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9DA6510-752A-4BCC-B9C8-C9D1B0897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15FC21C-CC5E-4DC4-9A16-62BB23B07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91E0D59-5160-43D3-B3A7-2D853C291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99F80F2-1BD2-4D6E-8FA5-88D09B1DC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DCE9379-1F55-47E9-AAF2-E9314D031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BB24AB4-3657-46F6-8A8E-23E1BF6A1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02EFA60-D232-455C-8698-956CC1BAF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FB4A877-7896-481D-9ADB-19D4B0B70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DC77D36-2A65-4033-B35C-B62C4DE94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2BF2EB5-498B-48F6-A8D4-F503A12CE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7A07C-7406-4ABC-8854-0F8470D6B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FFBC277-CBD2-4CFB-8351-027A0E14E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D5BD24F-4AD9-46EF-9CE7-4F758400D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0751EEB-DC45-4D3A-AB09-4B62671CC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0C905D1-766D-43D0-83BC-54998EB08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2505F98-9BFD-417D-8795-6CD6C63B0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F078222-26CA-49B4-8C5A-20B259906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98E6D7C-2866-4D9E-8BE6-5841262CE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50BFD52-115E-4150-BFFE-033B7F59F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D5C7D22-9EE1-4BA5-A791-D6531DC38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59529B2-72F1-4586-89DD-D631E7826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3BC4A-1BA5-4976-B04E-B576B3DF5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4A3D1-FC90-4A13-845B-EE70D3A15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A60A0AE-96BC-4AF7-B671-0AD7010CE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F025614-6E72-4D85-B945-04F816A5A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F13FF63-71F5-495F-9ED4-4C03B24A0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7F74AB5-2438-466E-927E-D2C8F4AEF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E7E8B39-6C48-4105-8176-61AACAFE4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408A5D2-E599-41D9-983F-D9551E12C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ADAEB87-6344-420C-A736-CB17338B5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A96F871-51CD-4915-870D-06D54EF78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B97CC9E-FEEC-4FAD-812B-40C3DFCE5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0AE6BD3-03FE-4ED3-ACC3-2A126B708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F4BF2-6C37-4076-8181-56165F288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865A5DE-C426-46F2-91FD-DB597AF0C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24263D6-A4B6-4CE9-955B-29FD72E90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9D9226F-C597-4C46-A4EF-63D4E67A5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D1979DF-EA59-40D2-9738-9A185D430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1A0601C-F530-418D-997F-27854DDE5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A934799-15AE-4510-8DB5-E093BD0AC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FA7B93D-DF71-4654-B5B3-76C411B23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D23D06F-9707-4BDF-AFE9-069741515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6F44C50-A06F-4E65-B4A3-9D0F0EF67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5BB66F3-CC94-4C6B-9FF1-622731879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A4B19-320E-4D6D-A23C-C4370372A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9B07340-C92E-402A-BC78-F0FFF698C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799F69C-4539-4FCD-B3DE-60EA1F55B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5765487-D949-4EDD-9BA8-49BEEA783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C9AAABA-2B05-426E-BA75-8D1E80882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BF0C902-B5DB-4CB5-89AF-C208F017A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96525B7-6A50-4F0F-B7B2-209FDEE92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1150DDE-F620-4F05-AD28-D39AC97CF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387C70E-2CE1-4749-B10C-810A13EFB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B68C36E-5731-43B7-84BD-C356F8C41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F856695-E3F9-4416-9970-0CA0C5C37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2FE1B-FF21-44C4-8CC1-BC55B459A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7DB50A5-D03B-4587-9367-AA236FA22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4D1613A-0812-43CC-B1ED-3AE140407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10922E8-6EED-4110-8C77-168443934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3B068DB-8A30-40D9-9111-FB7B312D4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4E83A1C-4D2F-45C6-8505-47042C275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64B3391-A2F0-42AE-ADEA-E7B404A28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3746AF2-8753-48AE-BEF9-28FE3585C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E1A9B14-10F2-432F-9495-F3B59872E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946EBC2-0126-4621-B3B7-5B3C39E1D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175E2B0-B78A-4399-BB6D-DF49A5A90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D3934-9D12-49EF-B68C-A850E6875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CEC2C4E-B03D-4494-AD0F-EA073C15C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17AA186-576A-4CA5-BAD6-ABA19CF49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29D352F-0213-4435-B15A-7F8C8E1A2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241C2B8-E854-4198-B53B-5C1F186C5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0AF6EBB-5775-42FC-8F14-7A106EC8E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E8B2C69-32B9-4881-8BB1-9003EA0B9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1C44DDC-1065-4F14-AE20-F9F8BD071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3DEAE73-4332-4F0F-9D5F-C0316CCDF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9EA6FD0-16A7-4400-A641-CB1B35097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89C1527-2FB0-4185-AA40-E7CE5E41E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7F2960-8E18-46F7-AF79-FEDB6E233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5AE2B9F-ACB6-4BF9-90C7-26526D536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0FE0C27-BB31-45FD-906D-53F8F28B0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271D49D-E0DA-4835-8BD2-2AAF50BE8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E38288-C306-4165-B0D1-19F02F1C1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E26218-9A60-4899-B867-E89D1EC27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F1DA30-9D18-4A6A-8FD2-8FE95AE7D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1FF047-491B-4406-91B4-104735073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33748-AB42-4761-AA18-D01C61F60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247BC7-18C5-4A16-9895-28C0F1786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07F303-C9EA-4C1E-9AE8-3581C5962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4E0A46-BCF5-4F20-B13B-B5CDCF469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E41FEC-6A9B-4462-9358-672774069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F43A3A-C792-445C-9BE1-0763292DD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5C2F06-36CE-49D7-856B-F7A0E5AB7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3C40C9-AD9A-4929-A552-AA31CDFBC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53259A-0721-4F2F-BC9B-40BF3BC63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099DF8-96B6-4E6C-886F-3E0487612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B12BA0-F299-4545-82FD-75320230E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B5497-E11D-4F32-B2D7-28BD2BCB4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24AA4F-00B1-4517-9B0B-12828A635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18F60E-3336-40DC-9BCA-0CAB2AD77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61E5D3-5864-4C57-9E43-2BD51063F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BC7F9C-6BF0-40C1-9069-F7199EB86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E98CCF-EACD-4B43-B308-8A8570A4B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BAB879-CF70-484C-A47D-9A0915734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85C403-AD11-433D-86FA-C369D338B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D60C52-258F-4106-BCC5-CDA82D891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3695D4-28B7-45F6-9A7D-DEFBE2CEA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6EC53E-8B1E-497F-BDE0-BAC88186B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B05E8-4C9B-4194-B7A9-0C9733C9D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14A4FE-CAFD-4683-B3CD-EB214FA46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9B008A-33FF-4E83-9F88-D3433D333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E6C854-9C09-401A-8097-9605CB0E7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AF3CFB-97D8-4DBA-A526-0CE901E36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852D3A-3AEF-4446-A495-938B033DF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8DF4E7-64FB-4032-8646-CDEB6565B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2BF33E-131F-4FB9-A6D2-A6CEDE713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A633C6-A617-4079-89CE-198293192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3BA012-8463-450C-9B2A-87F7C5315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E19A74-C5B6-490D-8453-F5AF9E18F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0CEB6-F091-446A-9421-5F1944BBF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07C4A6-9B59-4336-8B07-C7BA14C9D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56C801-EBAC-47B1-BF34-CEC79A03C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0D81C7-5A8C-4B98-903A-1F81A9794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8A58E7-1D1F-4EA6-B4E2-877572E65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74B856-8AC2-4972-BD5E-2809800D3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322811-C1F4-489E-820F-7443BEDE9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C815AB-F9F3-45D5-8844-C8399398B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EC90F3-68E5-4DD4-9EC7-0D52AA494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F8FB48-6B9C-4264-80BE-0FD2F712E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8E7789-270B-4D9F-8187-B788553D4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FA951-0065-424F-9BB4-57C0A8194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8D2344-5050-4B4B-B78E-7DA49E791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1442A1-60FD-4DCA-A5F2-61BCF7E5D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8863CE-B8D4-4809-897D-3A77A2002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8FF47D-ED4D-41C0-8FD7-E240F701E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610439-3097-4911-9C83-8371855A6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4C380E-1108-4A59-A837-78A667FE1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5EDE7D-833A-471C-ACFF-221D9463C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9C41B9-C835-48C2-AF54-C355EF7ED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1E03C1-B26A-4A94-948F-B81F89D18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40876A-1F0B-453B-83CB-1B110A457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E002B-78B8-41D0-AD5C-249B04C14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ECBE65-4016-4FD6-99A0-AA7331C28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A3DE61-802C-46B5-9782-B1FEEF0E1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6C676E-1B4C-4895-A252-E52DBD01C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0ABEE2-729F-4BAC-B225-25EFBF272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F7E220-DAC0-4EAB-BF87-372A7AD3F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F1DCBD-0A77-4938-B079-D35046662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E922FC-72AA-4D9F-BD5B-7764E2E35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7982D3-70A7-4FE3-8700-DB42E88D6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71F325-D7AF-4449-BCD1-867B93E2F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22A6E9-1DF9-45BE-B086-2EB3B3C4B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13C3D-F0F1-4C20-B3BC-42D915D1F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B62CE5-64B4-4101-82E4-895FA4EEB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C50A8B-B6FF-42D3-860B-E3401A046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87B2D4-CD84-4149-A466-55ED3133B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3596E0-DA2B-4650-A301-B5AA787F6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6E6FF8-D5D5-48EA-BC05-A3C3E6EEB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C85B9C-D453-491C-84C8-F71E7B7BE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603044-468C-459C-89AC-B4000D813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6F4E77-9664-45CE-A600-CA488F27D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B0A01E-9BF0-4528-87A3-6E6734485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66C235-E8A7-481B-8247-54985DF1C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70371-95D6-4A7D-9518-6F3148C5DE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9D0C7-53C1-4ED3-B393-F58A873078B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BA436-2A06-4559-AA82-33A7C7DD710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EF7B9-AA12-43E7-A569-71A0E9527B4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57FD9-35BF-479E-8B1B-B4E46DA32D1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FBCEF-D756-441E-8A25-C192A1A17A9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01D0D-CFF7-41D7-9B88-D129F9AFA4A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E87F1-0929-44DC-BC5B-748B63F4FD3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1AC5C-2D7D-4BA0-8845-50A4815A267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22A76-792E-44EF-8D0B-D25BAED0217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5E4E2-7518-4D82-A7D5-90D8E6592E4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EBD88-A29B-46B9-96DB-E5E565C8010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B9F27-CEAE-49C9-A6B6-95684493FC1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F8359-7326-4D70-B567-42BC5509C8E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ACABA-E163-4819-B74E-052B201935D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C65EF-1899-46C4-933A-205D04E5FBA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565AA-9E0D-4015-A3FA-3DB07000B54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6B855-A844-4394-B3F1-D957A1B1431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3EADA-597C-4EF4-85D8-57C485B57FA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1D64C-1B88-4417-8957-3FD561F7AC4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12F7A-6F13-43DF-9E7A-52CA5DA64C3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76BDD-BA2C-44E5-AE06-ED5012DC285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3832F-50A4-4AC7-A2EF-41EB7010AE8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C3F07-998A-4EB8-8FC0-F8F13A0062F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56852-5ADE-4EFA-A3D5-6EFA3ABFBBB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9032D-1914-4706-9DCF-93369DB4C32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9D608-AAD5-42F6-80DB-18DA6D5477A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319B2-577C-45A8-99A0-00F520BFE1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89499-3280-4CA9-BD00-3FB868C15D9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006AB-3B7E-4465-A0A8-D0D7D3BD01B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4704C-8D36-46FB-BD9C-0077F84DBC8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1B460-1487-4B67-99D7-762C657D7F5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721D7-758F-4CF7-A4E5-285DC279AD8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89770-05CA-4D93-9E41-94E66A81457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A6445-AFDF-472C-9254-0108ABF809F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F89C7-9DD2-42AE-A93F-D45CF6C8FE1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7892D-2B06-471A-B29B-28FB5AA3ACB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3308E-0A4E-49CA-BD45-12037676148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FEFA8-A038-4C89-9F6F-BCDF34FCD15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E7B10-9CA4-4F4A-A4FA-CA05AA7CA41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2" name="Picture 10" descr=""/>
          <p:cNvPicPr/>
          <p:nvPr/>
        </p:nvPicPr>
        <p:blipFill>
          <a:blip r:embed="rId1"/>
          <a:stretch/>
        </p:blipFill>
        <p:spPr>
          <a:xfrm>
            <a:off x="2200320" y="3095640"/>
            <a:ext cx="47433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5" name="Picture 2" descr=""/>
          <p:cNvPicPr/>
          <p:nvPr/>
        </p:nvPicPr>
        <p:blipFill>
          <a:blip r:embed="rId1"/>
          <a:stretch/>
        </p:blipFill>
        <p:spPr>
          <a:xfrm>
            <a:off x="466560" y="2019240"/>
            <a:ext cx="8210880" cy="2819520"/>
          </a:xfrm>
          <a:prstGeom prst="rect">
            <a:avLst/>
          </a:prstGeom>
          <a:ln w="0">
            <a:noFill/>
          </a:ln>
        </p:spPr>
      </p:pic>
      <p:sp>
        <p:nvSpPr>
          <p:cNvPr id="1066" name="矩形 2"/>
          <p:cNvSpPr/>
          <p:nvPr/>
        </p:nvSpPr>
        <p:spPr>
          <a:xfrm>
            <a:off x="3286080" y="2571840"/>
            <a:ext cx="928800" cy="2887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矩形 3"/>
          <p:cNvSpPr/>
          <p:nvPr/>
        </p:nvSpPr>
        <p:spPr>
          <a:xfrm>
            <a:off x="7429680" y="2571840"/>
            <a:ext cx="1000080" cy="2887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矩形 4"/>
          <p:cNvSpPr/>
          <p:nvPr/>
        </p:nvSpPr>
        <p:spPr>
          <a:xfrm>
            <a:off x="1000080" y="3000240"/>
            <a:ext cx="1000080" cy="3254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矩形 5"/>
          <p:cNvSpPr/>
          <p:nvPr/>
        </p:nvSpPr>
        <p:spPr>
          <a:xfrm>
            <a:off x="2071800" y="3868560"/>
            <a:ext cx="1000080" cy="2890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矩形 6"/>
          <p:cNvSpPr/>
          <p:nvPr/>
        </p:nvSpPr>
        <p:spPr>
          <a:xfrm>
            <a:off x="5369040" y="3871800"/>
            <a:ext cx="1000080" cy="2890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矩形 7"/>
          <p:cNvSpPr/>
          <p:nvPr/>
        </p:nvSpPr>
        <p:spPr>
          <a:xfrm>
            <a:off x="6715080" y="3857760"/>
            <a:ext cx="1000080" cy="2887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5" dur="1000"/>
                                        <p:tgtEl>
                                          <p:spTgt spid="10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0" dur="10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5" dur="1000"/>
                                        <p:tgtEl>
                                          <p:spTgt spid="10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0" dur="1000"/>
                                        <p:tgtEl>
                                          <p:spTgt spid="10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5" dur="1000"/>
                                        <p:tgtEl>
                                          <p:spTgt spid="10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0" dur="1000"/>
                                        <p:tgtEl>
                                          <p:spTgt spid="10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3" name="Picture 2" descr=""/>
          <p:cNvPicPr/>
          <p:nvPr/>
        </p:nvPicPr>
        <p:blipFill>
          <a:blip r:embed="rId1"/>
          <a:stretch/>
        </p:blipFill>
        <p:spPr>
          <a:xfrm>
            <a:off x="428760" y="714240"/>
            <a:ext cx="8191440" cy="6143760"/>
          </a:xfrm>
          <a:prstGeom prst="rect">
            <a:avLst/>
          </a:prstGeom>
          <a:ln w="0">
            <a:noFill/>
          </a:ln>
        </p:spPr>
      </p:pic>
      <p:pic>
        <p:nvPicPr>
          <p:cNvPr id="1024" name="Picture 3" descr=""/>
          <p:cNvPicPr/>
          <p:nvPr/>
        </p:nvPicPr>
        <p:blipFill>
          <a:blip r:embed="rId2"/>
          <a:stretch/>
        </p:blipFill>
        <p:spPr>
          <a:xfrm>
            <a:off x="2786040" y="285840"/>
            <a:ext cx="4200480" cy="504720"/>
          </a:xfrm>
          <a:prstGeom prst="rect">
            <a:avLst/>
          </a:prstGeom>
          <a:ln w="0">
            <a:noFill/>
          </a:ln>
        </p:spPr>
      </p:pic>
      <p:sp>
        <p:nvSpPr>
          <p:cNvPr id="1025" name="矩形 3"/>
          <p:cNvSpPr/>
          <p:nvPr/>
        </p:nvSpPr>
        <p:spPr>
          <a:xfrm>
            <a:off x="2214720" y="2143080"/>
            <a:ext cx="500040" cy="3366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矩形 4"/>
          <p:cNvSpPr/>
          <p:nvPr/>
        </p:nvSpPr>
        <p:spPr>
          <a:xfrm>
            <a:off x="6572160" y="2143080"/>
            <a:ext cx="1643040" cy="3366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矩形 5"/>
          <p:cNvSpPr/>
          <p:nvPr/>
        </p:nvSpPr>
        <p:spPr>
          <a:xfrm>
            <a:off x="2071800" y="3000240"/>
            <a:ext cx="857160" cy="3366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矩形 6"/>
          <p:cNvSpPr/>
          <p:nvPr/>
        </p:nvSpPr>
        <p:spPr>
          <a:xfrm>
            <a:off x="1143000" y="3429000"/>
            <a:ext cx="857160" cy="3366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矩形 7"/>
          <p:cNvSpPr/>
          <p:nvPr/>
        </p:nvSpPr>
        <p:spPr>
          <a:xfrm>
            <a:off x="3143160" y="3429000"/>
            <a:ext cx="1214640" cy="3538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矩形 8"/>
          <p:cNvSpPr/>
          <p:nvPr/>
        </p:nvSpPr>
        <p:spPr>
          <a:xfrm>
            <a:off x="1785960" y="4286160"/>
            <a:ext cx="1000080" cy="3366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矩形 9"/>
          <p:cNvSpPr/>
          <p:nvPr/>
        </p:nvSpPr>
        <p:spPr>
          <a:xfrm>
            <a:off x="5572080" y="4286160"/>
            <a:ext cx="1643040" cy="3366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矩形 10"/>
          <p:cNvSpPr/>
          <p:nvPr/>
        </p:nvSpPr>
        <p:spPr>
          <a:xfrm>
            <a:off x="1857240" y="5143680"/>
            <a:ext cx="857520" cy="3362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矩形 11"/>
          <p:cNvSpPr/>
          <p:nvPr/>
        </p:nvSpPr>
        <p:spPr>
          <a:xfrm>
            <a:off x="5715000" y="5143680"/>
            <a:ext cx="1214280" cy="3362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矩形 12"/>
          <p:cNvSpPr/>
          <p:nvPr/>
        </p:nvSpPr>
        <p:spPr>
          <a:xfrm>
            <a:off x="1743120" y="6032520"/>
            <a:ext cx="64296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矩形 13"/>
          <p:cNvSpPr/>
          <p:nvPr/>
        </p:nvSpPr>
        <p:spPr>
          <a:xfrm>
            <a:off x="6165720" y="6035760"/>
            <a:ext cx="2071800" cy="3366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10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10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10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10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" dur="10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" dur="10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1" dur="10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6" dur="10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6" name="Picture 2" descr=""/>
          <p:cNvPicPr/>
          <p:nvPr/>
        </p:nvPicPr>
        <p:blipFill>
          <a:blip r:embed="rId1"/>
          <a:stretch/>
        </p:blipFill>
        <p:spPr>
          <a:xfrm>
            <a:off x="500040" y="714240"/>
            <a:ext cx="8220240" cy="594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7" name="Picture 2" descr=""/>
          <p:cNvPicPr/>
          <p:nvPr/>
        </p:nvPicPr>
        <p:blipFill>
          <a:blip r:embed="rId1"/>
          <a:stretch/>
        </p:blipFill>
        <p:spPr>
          <a:xfrm>
            <a:off x="419040" y="1214280"/>
            <a:ext cx="8305920" cy="4429440"/>
          </a:xfrm>
          <a:prstGeom prst="rect">
            <a:avLst/>
          </a:prstGeom>
          <a:ln w="0">
            <a:noFill/>
          </a:ln>
        </p:spPr>
      </p:pic>
      <p:sp>
        <p:nvSpPr>
          <p:cNvPr id="1038" name="矩形 2"/>
          <p:cNvSpPr/>
          <p:nvPr/>
        </p:nvSpPr>
        <p:spPr>
          <a:xfrm>
            <a:off x="1000080" y="2643120"/>
            <a:ext cx="500040" cy="3366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3" dur="10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9" name="Picture 2" descr=""/>
          <p:cNvPicPr/>
          <p:nvPr/>
        </p:nvPicPr>
        <p:blipFill>
          <a:blip r:embed="rId1"/>
          <a:stretch/>
        </p:blipFill>
        <p:spPr>
          <a:xfrm>
            <a:off x="385920" y="995400"/>
            <a:ext cx="8372160" cy="4867200"/>
          </a:xfrm>
          <a:prstGeom prst="rect">
            <a:avLst/>
          </a:prstGeom>
          <a:ln w="0">
            <a:noFill/>
          </a:ln>
        </p:spPr>
      </p:pic>
      <p:sp>
        <p:nvSpPr>
          <p:cNvPr id="1040" name="矩形 2"/>
          <p:cNvSpPr/>
          <p:nvPr/>
        </p:nvSpPr>
        <p:spPr>
          <a:xfrm>
            <a:off x="857160" y="1071720"/>
            <a:ext cx="500040" cy="3362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矩形 3"/>
          <p:cNvSpPr/>
          <p:nvPr/>
        </p:nvSpPr>
        <p:spPr>
          <a:xfrm>
            <a:off x="928800" y="3286080"/>
            <a:ext cx="428400" cy="3366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0" dur="10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5" dur="10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2" name="Picture 2" descr=""/>
          <p:cNvPicPr/>
          <p:nvPr/>
        </p:nvPicPr>
        <p:blipFill>
          <a:blip r:embed="rId1"/>
          <a:stretch/>
        </p:blipFill>
        <p:spPr>
          <a:xfrm>
            <a:off x="490680" y="824040"/>
            <a:ext cx="8162640" cy="5209920"/>
          </a:xfrm>
          <a:prstGeom prst="rect">
            <a:avLst/>
          </a:prstGeom>
          <a:ln w="0">
            <a:noFill/>
          </a:ln>
        </p:spPr>
      </p:pic>
      <p:sp>
        <p:nvSpPr>
          <p:cNvPr id="1043" name="矩形 2"/>
          <p:cNvSpPr/>
          <p:nvPr/>
        </p:nvSpPr>
        <p:spPr>
          <a:xfrm>
            <a:off x="857160" y="857160"/>
            <a:ext cx="571680" cy="3366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矩形 3"/>
          <p:cNvSpPr/>
          <p:nvPr/>
        </p:nvSpPr>
        <p:spPr>
          <a:xfrm>
            <a:off x="874800" y="3471840"/>
            <a:ext cx="571320" cy="3366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2" dur="10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7" dur="10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5" name="Picture 2" descr=""/>
          <p:cNvPicPr/>
          <p:nvPr/>
        </p:nvPicPr>
        <p:blipFill>
          <a:blip r:embed="rId1"/>
          <a:stretch/>
        </p:blipFill>
        <p:spPr>
          <a:xfrm>
            <a:off x="433440" y="871560"/>
            <a:ext cx="8277120" cy="5200560"/>
          </a:xfrm>
          <a:prstGeom prst="rect">
            <a:avLst/>
          </a:prstGeom>
          <a:ln w="0">
            <a:noFill/>
          </a:ln>
        </p:spPr>
      </p:pic>
      <p:sp>
        <p:nvSpPr>
          <p:cNvPr id="1046" name="矩形 2"/>
          <p:cNvSpPr/>
          <p:nvPr/>
        </p:nvSpPr>
        <p:spPr>
          <a:xfrm>
            <a:off x="785880" y="928800"/>
            <a:ext cx="428400" cy="3366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矩形 3"/>
          <p:cNvSpPr/>
          <p:nvPr/>
        </p:nvSpPr>
        <p:spPr>
          <a:xfrm>
            <a:off x="857160" y="2214720"/>
            <a:ext cx="428760" cy="3362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矩形 4"/>
          <p:cNvSpPr/>
          <p:nvPr/>
        </p:nvSpPr>
        <p:spPr>
          <a:xfrm>
            <a:off x="857160" y="4000680"/>
            <a:ext cx="428760" cy="3362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4" dur="10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9" dur="10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4" dur="10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9" name="Picture 2" descr=""/>
          <p:cNvPicPr/>
          <p:nvPr/>
        </p:nvPicPr>
        <p:blipFill>
          <a:blip r:embed="rId1"/>
          <a:stretch/>
        </p:blipFill>
        <p:spPr>
          <a:xfrm>
            <a:off x="399960" y="966960"/>
            <a:ext cx="8344080" cy="4924080"/>
          </a:xfrm>
          <a:prstGeom prst="rect">
            <a:avLst/>
          </a:prstGeom>
          <a:ln w="0">
            <a:noFill/>
          </a:ln>
        </p:spPr>
      </p:pic>
      <p:sp>
        <p:nvSpPr>
          <p:cNvPr id="1050" name="矩形 2"/>
          <p:cNvSpPr/>
          <p:nvPr/>
        </p:nvSpPr>
        <p:spPr>
          <a:xfrm>
            <a:off x="1928880" y="1500120"/>
            <a:ext cx="2071800" cy="3366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矩形 3"/>
          <p:cNvSpPr/>
          <p:nvPr/>
        </p:nvSpPr>
        <p:spPr>
          <a:xfrm>
            <a:off x="6929280" y="1500120"/>
            <a:ext cx="1357560" cy="3859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矩形 4"/>
          <p:cNvSpPr/>
          <p:nvPr/>
        </p:nvSpPr>
        <p:spPr>
          <a:xfrm>
            <a:off x="4929120" y="2357280"/>
            <a:ext cx="1143000" cy="3366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矩形 5"/>
          <p:cNvSpPr/>
          <p:nvPr/>
        </p:nvSpPr>
        <p:spPr>
          <a:xfrm>
            <a:off x="5929200" y="2857680"/>
            <a:ext cx="928800" cy="2966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矩形 6"/>
          <p:cNvSpPr/>
          <p:nvPr/>
        </p:nvSpPr>
        <p:spPr>
          <a:xfrm>
            <a:off x="6858000" y="3714840"/>
            <a:ext cx="714240" cy="3366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矩形 7"/>
          <p:cNvSpPr/>
          <p:nvPr/>
        </p:nvSpPr>
        <p:spPr>
          <a:xfrm>
            <a:off x="4357800" y="4572000"/>
            <a:ext cx="1643040" cy="3366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矩形 8"/>
          <p:cNvSpPr/>
          <p:nvPr/>
        </p:nvSpPr>
        <p:spPr>
          <a:xfrm>
            <a:off x="6643800" y="5029200"/>
            <a:ext cx="1571400" cy="3366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1" dur="10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6" dur="10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1" dur="10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6" dur="10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1" dur="10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6" dur="10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1" dur="10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7" name="Picture 2" descr=""/>
          <p:cNvPicPr/>
          <p:nvPr/>
        </p:nvPicPr>
        <p:blipFill>
          <a:blip r:embed="rId1"/>
          <a:stretch/>
        </p:blipFill>
        <p:spPr>
          <a:xfrm>
            <a:off x="452520" y="1309680"/>
            <a:ext cx="8238960" cy="4238640"/>
          </a:xfrm>
          <a:prstGeom prst="rect">
            <a:avLst/>
          </a:prstGeom>
          <a:ln w="0">
            <a:noFill/>
          </a:ln>
        </p:spPr>
      </p:pic>
      <p:sp>
        <p:nvSpPr>
          <p:cNvPr id="1058" name="矩形 2"/>
          <p:cNvSpPr/>
          <p:nvPr/>
        </p:nvSpPr>
        <p:spPr>
          <a:xfrm>
            <a:off x="1928880" y="2143080"/>
            <a:ext cx="1428840" cy="3366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矩形 3"/>
          <p:cNvSpPr/>
          <p:nvPr/>
        </p:nvSpPr>
        <p:spPr>
          <a:xfrm>
            <a:off x="4000680" y="2143080"/>
            <a:ext cx="663480" cy="3603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矩形 4"/>
          <p:cNvSpPr/>
          <p:nvPr/>
        </p:nvSpPr>
        <p:spPr>
          <a:xfrm>
            <a:off x="928800" y="2643120"/>
            <a:ext cx="1285920" cy="2890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矩形 5"/>
          <p:cNvSpPr/>
          <p:nvPr/>
        </p:nvSpPr>
        <p:spPr>
          <a:xfrm>
            <a:off x="2143080" y="3500280"/>
            <a:ext cx="1285920" cy="2890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矩形 6"/>
          <p:cNvSpPr/>
          <p:nvPr/>
        </p:nvSpPr>
        <p:spPr>
          <a:xfrm>
            <a:off x="1774800" y="4789440"/>
            <a:ext cx="1000080" cy="2890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矩形 7"/>
          <p:cNvSpPr/>
          <p:nvPr/>
        </p:nvSpPr>
        <p:spPr>
          <a:xfrm>
            <a:off x="3071880" y="4786200"/>
            <a:ext cx="1214280" cy="2890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矩形 8"/>
          <p:cNvSpPr/>
          <p:nvPr/>
        </p:nvSpPr>
        <p:spPr>
          <a:xfrm>
            <a:off x="6643800" y="4786200"/>
            <a:ext cx="1214280" cy="2890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8" dur="10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3" dur="10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8" dur="10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3" dur="10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8" dur="10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3" dur="10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8" dur="10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/>
  <dc:description/>
  <dc:language>en-US</dc:language>
  <cp:lastModifiedBy>加冕成王</cp:lastModifiedBy>
  <dcterms:modified xsi:type="dcterms:W3CDTF">2020-07-17T09:31:21Z</dcterms:modified>
  <cp:revision>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828</vt:lpwstr>
  </property>
</Properties>
</file>